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2523-778A-4CFD-8875-77EF4A8850F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39C-3A94-4EB8-9884-DB6473546E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944-7553-4E9A-9D3D-92C870D0A805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B51-9D64-417B-9858-397FADD3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177-77D3-41C2-80CC-FA8C16E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6CB-3140-4409-8D2D-45457510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472-6647-4554-A466-5F57C515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77AB-8CAA-41DE-8C99-CC7D3F96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2305-B79E-4979-BBFF-B9433F9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4FCD-DB32-4569-AA5D-75836E7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20FF-16EB-4CD7-80E0-DADA4B0A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D89-089B-4D60-9830-C83554F7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F8F9-3BB3-4D4D-8A9E-35662971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2804-ABB0-4D6D-99F8-B0E200F2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0D1-5526-403A-AB74-47B5F6A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765D-ECB1-44B0-8AFD-DC4E1BB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2308-0E9D-4C91-B7A4-B6948E0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96D-8DF8-4233-B539-86CC261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5405-BE8F-4687-9DFC-4C775EA8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5B3F-87BC-4F9F-BA7B-1F70F46B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D60-86FC-46D9-8342-3D97020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800-0434-47F9-9AD7-37E36539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DDC-70D0-4B1B-B7C3-A0CED41E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578-6D94-4C2B-AB8B-1AA91615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D86-0069-4FF7-8FC4-0A1286F1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450-3320-4F11-91BE-C046B5A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74F-68BD-4EEE-98FE-8BBE1A2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2FEB-91AF-492F-854B-01D383CB6B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E8B-3C0C-4222-9030-632B1ABA47D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llring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does the O in H</a:t>
            </a:r>
            <a:r>
              <a:rPr b="0" lang="en-US" sz="4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O stand for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Hydrog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arbo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Oxyg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Osmium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gend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ticipatory S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-50904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 no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-50904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omework chec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-50904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riodic table puzz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t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iodic Table Ga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dependent Pract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os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Antique Olive Compact"/>
              </a:rPr>
              <a:t>8.2 Periodic Table Pattern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7" descr="periodic_table"/>
          <p:cNvPicPr/>
          <p:nvPr/>
        </p:nvPicPr>
        <p:blipFill>
          <a:blip r:embed="rId1"/>
          <a:stretch/>
        </p:blipFill>
        <p:spPr>
          <a:xfrm>
            <a:off x="990720" y="1600200"/>
            <a:ext cx="70102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85840" y="91404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Verdana"/>
              </a:rPr>
              <a:t>The atomic number is the number of protons in an atom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Verdana"/>
              </a:rPr>
              <a:t>The atomic mass is the weight of the atom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7" descr="atomicnumber"/>
          <p:cNvPicPr/>
          <p:nvPr/>
        </p:nvPicPr>
        <p:blipFill>
          <a:blip r:embed="rId1"/>
          <a:stretch/>
        </p:blipFill>
        <p:spPr>
          <a:xfrm>
            <a:off x="152280" y="1523880"/>
            <a:ext cx="3267360" cy="164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elium"/>
          <p:cNvPicPr/>
          <p:nvPr/>
        </p:nvPicPr>
        <p:blipFill>
          <a:blip r:embed="rId2"/>
          <a:stretch/>
        </p:blipFill>
        <p:spPr>
          <a:xfrm>
            <a:off x="228600" y="3429000"/>
            <a:ext cx="3048120" cy="2193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tomic Number and Ma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66"/>
                </a:solidFill>
                <a:latin typeface="Verdana"/>
              </a:rPr>
              <a:t>Periodic Table Boxes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6248520" y="2797200"/>
            <a:ext cx="1904760" cy="2593440"/>
          </a:xfrm>
          <a:prstGeom prst="rect">
            <a:avLst/>
          </a:prstGeom>
          <a:noFill/>
          <a:ln w="9360">
            <a:solidFill>
              <a:srgbClr val="1018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10101"/>
                </a:solidFill>
                <a:latin typeface="Verdana"/>
              </a:rPr>
              <a:t>Si</a:t>
            </a:r>
            <a:endParaRPr b="0" lang="en-US" sz="5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28.08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Silico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ight Arrow 6"/>
          <p:cNvSpPr/>
          <p:nvPr/>
        </p:nvSpPr>
        <p:spPr>
          <a:xfrm>
            <a:off x="4952880" y="2819520"/>
            <a:ext cx="1828800" cy="2746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1219320" y="2590920"/>
            <a:ext cx="3886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Atomic number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752480" y="4267080"/>
            <a:ext cx="358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Atomic mass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ight Arrow 9"/>
          <p:cNvSpPr/>
          <p:nvPr/>
        </p:nvSpPr>
        <p:spPr>
          <a:xfrm>
            <a:off x="4952880" y="4495680"/>
            <a:ext cx="1828800" cy="2746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ight Arrow 10"/>
          <p:cNvSpPr/>
          <p:nvPr/>
        </p:nvSpPr>
        <p:spPr>
          <a:xfrm>
            <a:off x="5029200" y="3657600"/>
            <a:ext cx="1828800" cy="2746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ight Arrow 11"/>
          <p:cNvSpPr/>
          <p:nvPr/>
        </p:nvSpPr>
        <p:spPr>
          <a:xfrm>
            <a:off x="5029200" y="5105520"/>
            <a:ext cx="175248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1523880" y="4952880"/>
            <a:ext cx="358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Element name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3124080" y="3429000"/>
            <a:ext cx="358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Symbol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Valence Electron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6699"/>
                </a:solidFill>
                <a:uFillTx/>
                <a:latin typeface="Verdana"/>
              </a:rPr>
              <a:t>Valence electrons increase from 1-8 across the periodic table.</a:t>
            </a:r>
            <a:endParaRPr b="0" lang="en-US" sz="3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21" descr="PERTABLE"/>
          <p:cNvPicPr/>
          <p:nvPr/>
        </p:nvPicPr>
        <p:blipFill>
          <a:blip r:embed="rId1"/>
          <a:stretch/>
        </p:blipFill>
        <p:spPr>
          <a:xfrm>
            <a:off x="2881440" y="3359160"/>
            <a:ext cx="6186240" cy="3422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2895480" y="30592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    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3   4  5   6  7  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t’s Practice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es Zr stand for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he atomic mass of boron (B)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he atomic number of argo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many valence electrons does nitrogen hav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he symbol for chlorin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t’s Practice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n is writing a report about lead.  He made the following li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’s symbol is P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’s atomic Number is 8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’s atomic Mass is 200.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 has 4 valence electr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ich of the above pieces of information is incorrec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2:50:58Z</dcterms:created>
  <dc:creator>edesobe</dc:creator>
  <dc:description/>
  <dc:language>en-US</dc:language>
  <cp:lastModifiedBy>Caroline Roth</cp:lastModifiedBy>
  <cp:lastPrinted>2009-09-14T04:40:09Z</cp:lastPrinted>
  <dcterms:modified xsi:type="dcterms:W3CDTF">2011-03-22T03:37:34Z</dcterms:modified>
  <cp:revision>26</cp:revision>
  <dc:subject/>
  <dc:title>The Circulatory System</dc:title>
</cp:coreProperties>
</file>